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ct" ContentType="image/x-pict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7.pct" ContentType="image/x-pict"/>
  <Override PartName="/ppt/media/image6.png" ContentType="image/png"/>
  <Override PartName="/ppt/media/image17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.pct" ContentType="image/x-pict"/>
  <Override PartName="/ppt/media/image20.pct" ContentType="image/x-pict"/>
  <Override PartName="/ppt/media/image18.pct" ContentType="image/x-pict"/>
  <Override PartName="/ppt/media/image4.png" ContentType="image/png"/>
  <Override PartName="/ppt/media/image15.pct" ContentType="image/x-pict"/>
  <Override PartName="/ppt/media/image3.png" ContentType="image/png"/>
  <Override PartName="/ppt/media/image14.pct" ContentType="image/x-pict"/>
  <Override PartName="/ppt/media/image16.pct" ContentType="image/x-pict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4AB3-BF61-4C80-A1E1-51771394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EA27-F82B-404B-AE81-A1A0088F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988C-E3C9-4446-A11C-9633335C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E0F-0E96-4837-80AA-0843CA11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E886-EEC8-4DB8-BEDD-232BA678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73240" y="1371240"/>
            <a:ext cx="777240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9B3E-E7B6-4D9E-A24B-0D5EB232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2705-6205-4503-ADBD-557CD0A5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2E5F-8A0E-44C4-875D-A6E2E65F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86B-4BBC-48A6-9D88-F60FBC65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AB10-5BA8-422C-A49F-C1ABA73A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9332-EB03-4624-8EC8-3FD88DDF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AA6F-32EF-4CA0-A0EF-CA55A9F1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73240" y="1371240"/>
            <a:ext cx="777240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430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2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3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A3EF-065A-44AA-9039-AAF111388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image" Target="../media/image10.pct"/><Relationship Id="rId5" Type="http://schemas.openxmlformats.org/officeDocument/2006/relationships/image" Target="../media/image11.pct"/><Relationship Id="rId6" Type="http://schemas.openxmlformats.org/officeDocument/2006/relationships/image" Target="../media/image12.pct"/><Relationship Id="rId7" Type="http://schemas.openxmlformats.org/officeDocument/2006/relationships/image" Target="../media/image13.pct"/><Relationship Id="rId8" Type="http://schemas.openxmlformats.org/officeDocument/2006/relationships/image" Target="../media/image14.pct"/><Relationship Id="rId9" Type="http://schemas.openxmlformats.org/officeDocument/2006/relationships/image" Target="../media/image15.pct"/><Relationship Id="rId10" Type="http://schemas.openxmlformats.org/officeDocument/2006/relationships/image" Target="../media/image16.pct"/><Relationship Id="rId11" Type="http://schemas.openxmlformats.org/officeDocument/2006/relationships/image" Target="../media/image17.pct"/><Relationship Id="rId12" Type="http://schemas.openxmlformats.org/officeDocument/2006/relationships/image" Target="../media/image18.pct"/><Relationship Id="rId13" Type="http://schemas.openxmlformats.org/officeDocument/2006/relationships/image" Target="../media/image19.pct"/><Relationship Id="rId14" Type="http://schemas.openxmlformats.org/officeDocument/2006/relationships/image" Target="../media/image20.pct"/><Relationship Id="rId15" Type="http://schemas.openxmlformats.org/officeDocument/2006/relationships/image" Target="../media/image21.pct"/><Relationship Id="rId16" Type="http://schemas.openxmlformats.org/officeDocument/2006/relationships/image" Target="../media/image22.pct"/><Relationship Id="rId17" Type="http://schemas.openxmlformats.org/officeDocument/2006/relationships/image" Target="../media/image23.pct"/><Relationship Id="rId1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1371240"/>
            <a:ext cx="8793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hallenges Representing Phenotype in Pharmacogenomi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a Hernandez-Bouss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rmGK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pharmGkB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oals for Representing Knowledge in PharmGKB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platform for entering &amp; curating Pharmacogenomic knowledge = Protégé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important pharmacogenes + vari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+variant-drug-phenotype asso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entry for compu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vocabu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linkages to exist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s, drugs, extern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seman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ble S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able AL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ocabularies Currently Us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GNC for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famil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DRA for advers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dic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H for disease, symp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Ontology for cellular location, molecular function,  cellular biologic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0a8"/>
                </a:solidFill>
                <a:latin typeface="Arial"/>
              </a:rPr>
              <a:t>ASSU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type vocabulary (MESH for n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&amp; drug vocabulary (MESH for n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chEBI for chemica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drug dictionary @ PharmG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Knowledge Templ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vocabulary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representation of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f key “slots” to be filled using objects, according to log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Pathway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way Overview template, points to “Ste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way Step templates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bolism step (P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 step (P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ibition step (PD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stream phenotype step (PK &amp; P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ample metabolism st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83059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ample Drug Intera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ample Phenotype Associ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716292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990720"/>
            <a:ext cx="8229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rmGKB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egrates, aggregates and anno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 and knowledge to serve the PGx research commun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, high qua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otyp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enotype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mostly small studies, some large ones in the pipe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services inclu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terature curations, pathways, VIP gene summa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efforts focus on creat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ipe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improve efficiency and precision of cur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armGKB Te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73120" y="9907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225960" y="990720"/>
            <a:ext cx="126972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673520" y="9907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121440" y="9907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4749840" y="23623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6121440" y="243828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7493040" y="243828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2997360" y="3886200"/>
            <a:ext cx="1269720" cy="1270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4444920" y="388620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5969160" y="3886200"/>
            <a:ext cx="1269720" cy="1270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1"/>
          <a:stretch/>
        </p:blipFill>
        <p:spPr>
          <a:xfrm>
            <a:off x="3759120" y="53341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2"/>
          <a:stretch/>
        </p:blipFill>
        <p:spPr>
          <a:xfrm>
            <a:off x="7416720" y="388620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3"/>
          <a:stretch/>
        </p:blipFill>
        <p:spPr>
          <a:xfrm>
            <a:off x="5207040" y="53341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4"/>
          <a:stretch/>
        </p:blipFill>
        <p:spPr>
          <a:xfrm>
            <a:off x="7493040" y="9907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5"/>
          <a:stretch/>
        </p:blipFill>
        <p:spPr>
          <a:xfrm>
            <a:off x="1473120" y="243828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6"/>
          <a:stretch/>
        </p:blipFill>
        <p:spPr>
          <a:xfrm>
            <a:off x="3225960" y="2438280"/>
            <a:ext cx="1269720" cy="1270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7"/>
          <a:stretch/>
        </p:blipFill>
        <p:spPr>
          <a:xfrm>
            <a:off x="1473120" y="3886200"/>
            <a:ext cx="11732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Questions?  Thanks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ssard@stanford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Pharmacogenomics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ing how genetic variation leads to variation in responses to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romise from the Genome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sonalized Medic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drug use effective and safe based on a person’s specific g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armacogenomics Flo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85800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2419" r="4763" b="0"/>
          <a:stretch/>
        </p:blipFill>
        <p:spPr>
          <a:xfrm>
            <a:off x="2590920" y="1219320"/>
            <a:ext cx="6095880" cy="5510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43000" y="0"/>
            <a:ext cx="8001000" cy="125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armGKB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knowledge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talyze pharmacogenomics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armGKB Core Cont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8001000" cy="3052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43000" y="4768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on:  aggregate, integrate &amp; annotate pharmacogenomi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armGKB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textual summaries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orta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acogenes and their key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 pathway representations built by consensus, associated with literature evidence and links to PharmGKB genes, drugs, pheno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ture Anno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rmGKB curators create data entries that associate genes with drugs and phenotypes, based on an interpretation of the literature.  They encode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rolled vocabula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tic Variation Complex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variation and its relation to proteins is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exists in the ge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 vari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specify the existence of polymorphis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“There is A/C SNP at Golden Path X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lotype variations = collection of simple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 alle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are specific variation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“One allele of the A/C SNP is A at GP X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lotype alleles = collection of simple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otypes are diploid alleles = “diplotyp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ONS can be described to all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otype-Phenotype Rel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about gene-drug-pheno interactions comes at different levels of granula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Gene X interacts with Drug Y (in pheno Z)--in a physical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ri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Gene X makes a difference in pheno Z for Drug Y--in an association sense (can also be a physical interaction, but that is with produ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ecific Alle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Variant of Gene X has a particular effect on pheno  Z for Drug Y--also in an association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saic Challenge: Throughput &amp; Redundanc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curatorial staff has many du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methods to quickly identify important knowledge and capture it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 ONCE for multiple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computable knowledge, can generate displays appropriate for user interests:  pathways, VIP summaries, literature summ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16:36:02Z</dcterms:created>
  <dc:creator>Russ B Altman</dc:creator>
  <dc:description/>
  <dc:language>en-US</dc:language>
  <cp:lastModifiedBy>Tina Boussard</cp:lastModifiedBy>
  <cp:lastPrinted>1904-01-01T00:00:00Z</cp:lastPrinted>
  <dcterms:modified xsi:type="dcterms:W3CDTF">2006-12-01T20:08:31Z</dcterms:modified>
  <cp:revision>57</cp:revision>
  <dc:subject/>
  <dc:title>PharmGKB-Mosaic</dc:title>
</cp:coreProperties>
</file>